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61A-1518-4A09-9375-B8876738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16C-9E47-42FE-A852-9D3A2F7C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DDED4-2E9E-49E7-AF6B-CD5279C5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702D8-2027-40DB-BEF3-D9E28B19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EBDB6-EAA7-4A16-A542-6106AD02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BA3EE-C91B-42B7-B631-C833D7AE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A46EA-A166-4D28-A4FB-08E94BD3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24ADC-BB74-4438-A863-C76436AC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096D4-BAA7-4E8A-913A-5B397A8D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8F409-AF37-45F1-ADAD-9CF78157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54F42-B621-4604-84CB-378E67AB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71C49-1D8D-41AF-926D-FF1887CD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020-73CD-438F-9508-D3C72E82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E8FB3-56A3-418B-A581-B1CD4CD9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DC3C9-E6D1-4D0B-B775-A94366E6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87211-E2AA-41D4-964E-E3D81338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0A927-0A0C-4313-B269-6F1ADDCF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2EEB5-26AD-4DDB-83F0-006A85B2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25AB9-447C-4B88-809E-8560EBE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B5AC2-E940-4FD6-A96C-7F0A499C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4B895-DDAB-46E7-A098-32FAB36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5A255-729A-41C6-8DF8-A8F95204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741DF-EAAF-4F90-B62D-A967D9DF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F72-CD25-47A2-99E2-81B77533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5B7B3-6169-4AD1-8F45-B2978A9E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ED8BE-6F0E-432D-A4A6-4CBA036A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D0DBC-D9C4-4493-AB98-65075741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E1C8D-6B9C-4153-912C-045B973A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05E02-55D7-4D1C-B2D7-4FD7AB94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20E8F-1393-415A-AC81-53E736D5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AC1B3-85F6-4FAB-91EC-6278E4F9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B2880-7ED5-49CD-BC2C-752BDD1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B1D3E-2803-4EC7-84E1-35D4476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7C3DE-5D7C-461B-86CC-1DED8E32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4BD8-ACD5-4232-B8F0-BED24CB1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2959B-45FF-470A-B7B2-5EC76FD0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B9E53-0F28-4AC4-BA18-05AF1550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884FB-5D94-4306-972F-B7A012FB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E84E2-BCAA-44D3-A443-39BF9017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5DFAC-33C9-4E83-96C7-78CD8823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ED64A-8549-4146-B246-2E095C5A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68222-10D1-4ECA-B642-66CB1A2A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477DA-49C8-4169-B5FE-833C35B6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D1960-F70F-465A-A68D-9A4F89C2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3BEEC-8CE5-4EBE-A63B-43743B4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50E-55AF-481F-95B9-BE97DEAF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26411-176E-4B3B-95DE-9BF19810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86BE1-51CA-4517-AC00-220FE713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3402A-BFF6-4B50-A9D5-311158FF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39F45-6F32-40D1-8AEF-A8BAD6F4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10523-58AC-466C-B17F-50B3D278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1C1E4-D9DB-46B0-9704-30F74DA6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93A18-881D-4844-B912-323A7440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81A21-DF1B-43A8-BB5A-81734F5B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3B30E-CD80-496E-9EDD-83A58C0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AEE65-86CF-42EF-A075-9D827FCB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CA86-0DC5-4D19-AE58-42468F4E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6EED3-24AA-4BD9-A5A1-63306300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17E1D-A102-4805-B83F-4A31096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EB8C7-9F95-4357-BEED-44D1278B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23D44-6670-499F-9A08-E7FE5DAA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DB2DE-52B4-438E-B9EF-848FDF48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4A467-3A4F-402B-ADF8-F83395F0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296F7-9DB3-44D0-A239-00A52748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570DB-E361-43AE-BCD8-1956B0EC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C717A-7CD7-4B67-8F2E-0A0836BC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E525E-3AAB-4A1E-918E-AF4E1A4C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8312-5002-4B5C-AA29-B13E568C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28FBE-F4F1-421E-9684-C017B54D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5C070-A7F8-405E-9E0E-66EDA0A3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ADC2A-CC2E-47EA-98FB-B1398289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3FCC2-0396-414D-A441-BF1900BE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7FAE8-740F-423E-9C5F-D4266EE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9F9F2-D5FF-4199-B048-D4F793DB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FB780-FBF6-4310-B6D4-A56D57E3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541F8-73DC-4C1F-8141-D7CB3840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C68B5-E2C9-4CA8-9C13-C5EC0337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EB87F-D09C-4B70-BA0B-F7BBA4BD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2D01-8296-43F6-991B-8CF79F4A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626E9-D4B5-4EDF-8023-6C0AC196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B7E52-C080-4C0E-BA48-7B2F2DB7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D5726-E65D-4214-9207-9ACD4BD1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29F098-385C-499A-8C04-464DB34D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0EADB-BFD0-4ECA-A0EB-58242727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4F2D8-D52C-4A37-9544-B83CC2E0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B010B-EEA9-4704-B141-079863F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D37F8-92B3-4ECC-BC67-1C85E76C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8D2E3-113C-4B0C-94B6-1B5ADCF8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93C3B-1B7D-4403-A1F2-53E1442B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97BA-636E-414E-B4FA-6B44C3EE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6F3D4-8E41-4649-BCFD-2A98DD94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6A54F5-DEB6-43AD-9E73-1508EF9A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50D29-33AB-41A7-9263-DACEE7FF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FE5AC-07FB-4D8A-9AE9-31D490E7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077FA-D11C-47F3-B35A-DAC420D0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5C7E0-B6A0-49F7-BAEE-7EEB19ED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56422-EB02-4B0C-B4E4-0B155B0E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46804-A690-4A3F-A601-0012E879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645B5-02E8-49EE-B6A9-0F05A6DD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298B2-C853-4263-BA10-8498AC44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6265-08B2-45DB-B4B2-750C8F1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3D30A0-629F-4E62-9F70-0AF2C2D5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BC522-9549-40D1-97B3-2740070A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2F935-6F57-42C3-8AB4-506B8E50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E2EC5-DAAD-4E0C-A4EA-29EEF4B2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24594-8786-4E80-B430-C1BD41D7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C4E38-1951-4969-B451-ECBFB548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26AB2-1E76-4FD7-8F21-3F293FF7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579BC5-92CC-4660-A228-12BD917A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C1814-D2DE-45CB-8BFF-58176F6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04B95-7330-4D28-8E19-DA0462F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EDC-4CF3-43FC-9DEF-6F7DDD25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64D-BF04-480B-B950-82D00FE5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19A57-E913-4DBE-BAE6-4814DC7A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27F71-41CB-4C9D-8B15-99DD47CC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02B2B-7604-4133-A9E7-2239967E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17F72-136B-46FD-984D-09A4B65D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5AD320-FC8A-4EB3-B0FB-BA51B746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21E1C-2519-4391-B627-7548A9EA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D2D3B-6822-4A09-BA66-71A239CD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A943F-62AA-434F-8126-E63685D4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F410D-9BD6-4175-B7C0-07C0FE3D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2619C-C8DF-4080-AA93-3DA41F2C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C1AF-B766-4E68-8189-A4F9128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00518-DE45-4884-9C24-F2C4B463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42998-6F18-47D5-8986-853D6BA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3B50B-EC62-4318-8357-0CA7E385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2388C-FF66-40C8-B2D8-35B72E86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C6599-ED16-4F00-8BD9-2FCC976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3606F-20BC-4DE1-B2C0-B4C5A092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0C484-729E-4661-8C1E-A11216E1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908D0-9A82-4C43-90C1-34559CBD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8FBFC-BDDF-442A-8153-D839D839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A1BBC0-C9B2-4F76-9917-F31CCC1B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E07D-1FD7-4A40-AB11-2EF85903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D54C3-B3FE-4D13-8DE9-A1DEF9FE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4485F3-67EB-4B36-81FF-59B62BB1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2BA23B-77D5-4319-B925-9AD06FDA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EEDEA0-0688-4EA6-A2CB-45AA70C8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87A51C-61B7-4D42-9A3D-24866631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EAD2B-F5B6-458C-B399-FC512C1E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1D48F-E318-4245-BACB-EC5BF825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18B7A3-90BF-4737-A2CE-477DC9BC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5A77F-78C4-4E2E-8953-471E3B02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3EF3C8-3C1F-47D1-B4F8-0292516C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0334-5149-4F76-960F-95D997EE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91053-FDFD-4863-8BB8-B98907D6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5ED26F-6702-422B-A439-A898A58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DFF51-A194-40D9-94E4-34482E11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0AD0E1-5D5D-420A-8543-79EBF74C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F583F7-9D9A-480B-B03C-0786EB6E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78B975-3DD2-4919-8B74-3A94927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D84AD-1854-46CF-B03D-A2D3FF5A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4A1791-E4E2-42EE-83F5-9C1CB0B4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8388E-7DCF-4892-90AA-AD1D6319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E0BC4-3082-405A-8D77-1DC19C90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7BD1-38C8-4426-BDCD-CCB423DC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E3FF3-7001-437F-B549-CD6410FD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F36DE9-E4FB-4B0E-8BC7-6C1EE8F9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4219EC-8979-4036-953E-D548BE2C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6E303-DF4D-4286-96EF-880B6C1A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2C702-8566-4AD8-963A-B71C64ED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9F4DE0-3ADC-4919-852B-40773D21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7CC00E-3668-4D49-BF7F-9469064A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8F992-6558-43AE-9AA5-EB46BA8D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A87F8E-F08A-4206-AE26-7E08C141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B28693-8D45-45F7-BFEA-927E592F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B746-3EFF-4660-9216-F3765D67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CA0EA8-6CA2-45B0-878E-65624E6F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F888C-8DBA-4E16-9423-FB042DBC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E651C8-310C-4C19-9ED5-68C424C4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DD63-CD4F-44AD-B9E7-4C10B825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92C0-AE2E-4043-8F70-2159140D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E064-0030-43C6-A7D0-85CE2493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CF41-0C39-4B05-B6E9-88E4B095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641-EE3F-419E-AFFB-2F025FA8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B215-92C9-43FF-8369-3E646E36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CEAB-6DF7-4343-984D-4AA62DCA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9BD0-637D-4D3D-A14A-EB6F6C96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0417-5C10-448A-8225-FD32454F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1EE9-B2AA-4A80-BA20-A901A298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4595-F9EC-4D66-9B38-737F634D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D025-955B-4B1C-A0EB-2E8A8610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03E4-6A72-4279-829B-7C8655AA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5275-05FD-4718-8293-A4116742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52E5-7BE4-4A66-AB28-4A6538C2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4B8-D717-4E82-AF3C-230019A0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E4AA-CA1E-48A7-92AA-F7182863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93C5-EC9A-445C-8449-CB7BF0A9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3ECCF-A273-4CB9-B844-AD8BD36C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2F388-3736-4EE0-99DF-B22A8674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EADAA-128D-409C-A318-6107D945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EECF-BCA2-43C1-BD26-5258D921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D805-1580-4CDA-BF93-7F20DF2D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9DD3-4E47-4E5C-BC53-F0D6751D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A859-5FF9-4E78-82CE-5009B846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81358-A6A0-46C7-A579-B23A6BE3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543-7BD2-419F-A61D-B5A7C103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BD8C-F3C1-467A-83A6-3378045F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EC31C-251F-422C-8A73-5382C47D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E13A-C398-4815-BFEA-5F18AF61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8CF2-DF30-4333-9188-7B553AF8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DD035-1720-435A-B5DB-96689FD7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1B833-BD81-428F-9947-A2BC63CD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09B77-D137-45AD-A2F8-0AB128AB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66F6-1659-4CD3-9BB6-95162825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47915-BD2C-44FB-9E3F-99A046FB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3BD9-CC5E-44B8-922E-D2B66F7B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262-C842-4D4F-94B3-3DDD8438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39B25-9250-4A80-B18C-12BEDD7F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189E7-6855-4A94-A591-2ED0A7FE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45ABA-CCB2-48F0-8467-085F17F5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3E92E-2140-405B-A963-FDB486A1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BC3C9-669C-40CE-831C-02CDD463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FACA0-9C6C-4E22-B56C-33C19062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928F-8257-4188-8B2B-0C28BEB9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D6C9B-A4F9-49AB-B8E7-63CE5C8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34E73-3142-45E8-AB21-D4917F86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73E78-F513-4608-8929-E7F8F360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4BA-0940-427B-8F54-F201DB35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73705-C10E-4505-A3BE-9DCA0273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5CAED-69DB-46EE-AB23-BC5CF461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4DC2-11C4-4C56-8ED6-DDB03C28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E1235-8E6B-41B0-A4B3-84459B23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5044-D0A3-44DC-AF5E-58CD62F4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47B7-4851-4D9E-9408-D8ADBE56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F48D8-22C1-4660-8DF9-A462D63B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CA9CA-E149-4F65-8E1B-0C5B5415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790B7-44B1-4E99-93FF-E0676A85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5E92D-EFAE-4A20-ACF0-6CCC396C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81A-6E32-4881-BB25-5FB0564F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8D36A-4397-4376-A071-8D274E0F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35A91-DEFE-4B72-B3F4-9EDE4521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22751-5BF6-41B7-B693-EC737541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73FDB-D6AE-4DAD-AD31-712C49DC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F2958-8383-42C8-81EC-6E0F99DE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FC7F9-D1AE-473E-B4DD-96D18E5F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A9993-FC69-4898-847E-E7301553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B5D0E-7A9C-40C0-A9FA-43598190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51F51-E70A-4BC8-A929-2B3D4B25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50528-C624-41A9-ADB9-3D130FA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077-4762-4458-A6A7-2B381DE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512FF-3A55-4277-B313-DECA2A75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42048-6D8B-4399-9949-98195D02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A3F8A-FAFE-4C3A-BC91-BFE8439A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D3B7-8823-4D6A-98F5-DDFA7B52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868FF-C26C-4137-9F6E-C9FAD107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95EFD-079C-4845-8954-D86841AC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D3492-FD5E-4FD7-98C0-75AE05BF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501FA-14E3-4E68-BAAA-A790F476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5D07E-EAED-4881-9B64-531A4A9E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71861-1130-4EB4-8511-6150D199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3A23-8B81-43C0-AA31-CA1A39BB4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4541-1869-4FE5-8310-8B5868474C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6214-29B8-4991-8BCB-3C32C8FDAC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EE8E-5747-4080-A8B0-AF767BEC3B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89B-7C94-4EBF-814F-0D67743EA0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C5D2-9308-4E6E-BB85-4FE8C20B8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C410-411D-4B76-8E87-040872174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19DC-9031-49B1-B59C-5D92AF7AC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1CF5-CE9E-4154-8F0D-831665190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04B9-AFBA-48CF-980F-614E19FE3A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7771-E722-4961-82A8-F1E56EBE3F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BDD7-C812-4C5E-A397-12BA8AD42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D5E5-67D8-40B7-B16C-6F84D77C3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DBDE-CA41-4C12-A9CE-32A1D69DF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E6DB-7DAF-4EC1-8728-F2D9ADC21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5422-CDC3-4242-B048-EBA3D40510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CD7F-E658-427B-948B-74BA5A5C58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BDCA-483B-49CD-BCE4-6EF5446FE0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7253-7B83-4B88-9654-23E68085A3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C61D-E6C6-4387-A8C6-9970EAE7F0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C03F-46E1-4949-8EC3-FE100544CB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3374-F9AA-4014-A522-C38B9AA6D1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8D92-AEBF-4400-BA4C-6F5A9C872D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C5F1-78BA-44E3-A791-C7526FA297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66BD-910D-4540-9E72-C447470C2F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6D64-584D-4A9F-936A-752FCFC3F4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69F-D664-40E5-B7CE-745A26883B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42E6-27D9-4DB8-8781-68DA525E8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B039-F185-436A-8BAA-6A962EB3CC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4B5F-29C7-490A-9F78-825729A32D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6BF9-D042-4BA5-9A57-CDC4C51712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CD56-12DB-4AB2-919C-50D59D6C93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D8D4-DBBC-43C8-8AE4-3FDF2C829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B733-7D94-49C8-8149-A76CA09BF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0BB6-E3F8-4C7B-AB00-4447717887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B8D4-5E48-42DC-AAA0-9206684457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8171-3882-4799-9B83-23F8291651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C0ED-A943-41C4-B57D-EB669218CB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913C-409A-406F-BD68-6F2FF6FEE7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C98B-1A68-4BA1-874D-B20E299CD9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843280" y="3086280"/>
            <a:ext cx="3457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57120" y="695160"/>
            <a:ext cx="8487000" cy="6134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1785960" y="22446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715160" y="22446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928800" y="2714760"/>
            <a:ext cx="714240" cy="368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3214800" y="27068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5429160" y="2703600"/>
            <a:ext cx="1357560" cy="368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4143240" y="3641760"/>
            <a:ext cx="1571760" cy="369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7715160" y="363204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785880" y="4113360"/>
            <a:ext cx="857160" cy="369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10"/>
          <a:stretch/>
        </p:blipFill>
        <p:spPr>
          <a:xfrm>
            <a:off x="2428920" y="41133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1"/>
          <a:stretch/>
        </p:blipFill>
        <p:spPr>
          <a:xfrm>
            <a:off x="2857680" y="50529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12"/>
          <a:stretch/>
        </p:blipFill>
        <p:spPr>
          <a:xfrm>
            <a:off x="6572160" y="5041800"/>
            <a:ext cx="1714680" cy="370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13"/>
          <a:stretch/>
        </p:blipFill>
        <p:spPr>
          <a:xfrm>
            <a:off x="4071960" y="5510160"/>
            <a:ext cx="1285920" cy="368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14"/>
          <a:stretch/>
        </p:blipFill>
        <p:spPr>
          <a:xfrm>
            <a:off x="6643800" y="5513400"/>
            <a:ext cx="17143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28760" y="766800"/>
            <a:ext cx="8467560" cy="60199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1928880" y="2195640"/>
            <a:ext cx="7000920" cy="368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285840" y="26640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2143080" y="3135240"/>
            <a:ext cx="1928880" cy="368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7572240" y="3135240"/>
            <a:ext cx="135756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500040" y="3592440"/>
            <a:ext cx="207180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7"/>
          <a:stretch/>
        </p:blipFill>
        <p:spPr>
          <a:xfrm>
            <a:off x="1071720" y="4064040"/>
            <a:ext cx="150012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8"/>
          <a:stretch/>
        </p:blipFill>
        <p:spPr>
          <a:xfrm>
            <a:off x="5500800" y="4071960"/>
            <a:ext cx="250020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9"/>
          <a:stretch/>
        </p:blipFill>
        <p:spPr>
          <a:xfrm>
            <a:off x="4143240" y="4532400"/>
            <a:ext cx="3143520" cy="368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10"/>
          <a:stretch/>
        </p:blipFill>
        <p:spPr>
          <a:xfrm>
            <a:off x="7572240" y="5000760"/>
            <a:ext cx="128592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11"/>
          <a:stretch/>
        </p:blipFill>
        <p:spPr>
          <a:xfrm>
            <a:off x="500040" y="5470560"/>
            <a:ext cx="4786200" cy="369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12"/>
          <a:stretch/>
        </p:blipFill>
        <p:spPr>
          <a:xfrm>
            <a:off x="5429160" y="592920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553240" cy="37530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2" descr=""/>
          <p:cNvPicPr/>
          <p:nvPr/>
        </p:nvPicPr>
        <p:blipFill>
          <a:blip r:embed="rId2"/>
          <a:stretch/>
        </p:blipFill>
        <p:spPr>
          <a:xfrm>
            <a:off x="392040" y="4857840"/>
            <a:ext cx="8458200" cy="10000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1000080" y="1521000"/>
            <a:ext cx="2428920" cy="368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4"/>
          <a:stretch/>
        </p:blipFill>
        <p:spPr>
          <a:xfrm>
            <a:off x="7754760" y="2000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5"/>
          <a:stretch/>
        </p:blipFill>
        <p:spPr>
          <a:xfrm>
            <a:off x="357120" y="2460600"/>
            <a:ext cx="1785960" cy="368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6"/>
          <a:stretch/>
        </p:blipFill>
        <p:spPr>
          <a:xfrm>
            <a:off x="1214280" y="2928960"/>
            <a:ext cx="2071800" cy="368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7"/>
          <a:stretch/>
        </p:blipFill>
        <p:spPr>
          <a:xfrm>
            <a:off x="2857680" y="3398760"/>
            <a:ext cx="3071520" cy="370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8"/>
          <a:stretch/>
        </p:blipFill>
        <p:spPr>
          <a:xfrm>
            <a:off x="1928880" y="3857760"/>
            <a:ext cx="3929040" cy="368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9"/>
          <a:stretch/>
        </p:blipFill>
        <p:spPr>
          <a:xfrm>
            <a:off x="2071800" y="4950000"/>
            <a:ext cx="17143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806760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328680" y="876240"/>
            <a:ext cx="8486640" cy="5838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2"/>
          <a:stretch/>
        </p:blipFill>
        <p:spPr>
          <a:xfrm>
            <a:off x="285840" y="20001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3"/>
          <a:stretch/>
        </p:blipFill>
        <p:spPr>
          <a:xfrm>
            <a:off x="285840" y="254016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4"/>
          <a:stretch/>
        </p:blipFill>
        <p:spPr>
          <a:xfrm>
            <a:off x="285840" y="307188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5"/>
          <a:stretch/>
        </p:blipFill>
        <p:spPr>
          <a:xfrm>
            <a:off x="285840" y="359712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6"/>
          <a:stretch/>
        </p:blipFill>
        <p:spPr>
          <a:xfrm>
            <a:off x="285840" y="414972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7"/>
          <a:stretch/>
        </p:blipFill>
        <p:spPr>
          <a:xfrm>
            <a:off x="285840" y="467028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8"/>
          <a:stretch/>
        </p:blipFill>
        <p:spPr>
          <a:xfrm>
            <a:off x="285840" y="5199120"/>
            <a:ext cx="8775720" cy="384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9"/>
          <a:stretch/>
        </p:blipFill>
        <p:spPr>
          <a:xfrm>
            <a:off x="285840" y="57531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10"/>
          <a:stretch/>
        </p:blipFill>
        <p:spPr>
          <a:xfrm>
            <a:off x="285840" y="6281640"/>
            <a:ext cx="87757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543880" cy="21528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285840" y="90972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3"/>
          <a:stretch/>
        </p:blipFill>
        <p:spPr>
          <a:xfrm>
            <a:off x="285840" y="144000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4"/>
          <a:stretch/>
        </p:blipFill>
        <p:spPr>
          <a:xfrm>
            <a:off x="285840" y="1969920"/>
            <a:ext cx="8775720" cy="384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5"/>
          <a:stretch/>
        </p:blipFill>
        <p:spPr>
          <a:xfrm>
            <a:off x="285840" y="2506680"/>
            <a:ext cx="87757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8:03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